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B900-47E9-4450-A08F-FE727989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E01C-419F-4A45-9B12-07EDB00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9F05-BB66-4337-B975-9ED84BCA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89B8-7D38-41AF-9ECD-44B00A57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23B-2C0E-4CC3-A06B-4C18A5DF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A7B-F038-4E97-BA70-CB2043A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FD8-537F-492D-81D1-21D28D1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E93-7207-44AC-8EBA-6D76840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5AB-F058-4C7D-BBE7-DC249D7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B726-D54A-415D-B467-D741BA42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E196-EE9D-4BE5-A7FA-2520A50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B368-2FCF-486E-BF6E-82D8878C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5675-5A38-46CC-BD36-319E160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528-C598-4ABF-B8C5-F810E0F0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3CF7-0B93-4EB2-8B5A-2FE4A02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108-DEFB-4308-955E-E54C451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8A3-AAAC-4F8A-8464-81EA33AE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332B-F673-4B8A-BE4D-F6B3C47B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AFCF-4FBF-4478-B2BA-44C8715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7EE7-57ED-438F-BF82-9449FB8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D62E-FF35-4121-A0D3-97B1C95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CA0C-FFD8-4255-AB53-A4817DF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C111-42D2-42BB-AD72-B436E60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877A-C5ED-4282-BEC0-DD6997E6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D783-3078-42E8-8812-366C8699EA9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3F2C-8EB1-4E0D-9A5B-7EE5DC9F216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8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О, сладък наш съюз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ерни братия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к силно Господ наш Ису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ържи ни в любов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е наш Оте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наш Ходата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ин ще бъде наш венец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славний Божи ра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Едни тьгите н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деждата ед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ни са наште радос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дна ни е целт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Взаимно тъжим 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ъв време на скръбт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ълзи съчувствител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ближават ни сърц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5. Тук раздел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кръб причинява нам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спомняме си за неб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ще се видим там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2:58Z</dcterms:modified>
  <cp:revision>157</cp:revision>
  <dc:subject/>
  <dc:title>Slide 1</dc:title>
</cp:coreProperties>
</file>